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20.wmf" ContentType="image/x-wmf"/>
  <Override PartName="/ppt/media/image24.jpeg" ContentType="image/jpeg"/>
  <Override PartName="/ppt/media/image21.wmf" ContentType="image/x-wmf"/>
  <Override PartName="/ppt/media/image1.jpeg" ContentType="image/jpeg"/>
  <Override PartName="/ppt/media/image23.png" ContentType="image/png"/>
  <Override PartName="/ppt/media/image22.wmf" ContentType="image/x-wmf"/>
  <Override PartName="/ppt/media/image19.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move the slide</a:t>
            </a:r>
            <a:endParaRPr b="0" lang="en-US" sz="3600" spc="-1" strike="noStrike">
              <a:solidFill>
                <a:srgbClr val="895d1d"/>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C39C-AAF3-4E7E-A1A9-7EEF880BD8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provided courtesy of Bing images.</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6F3A-6F3D-49CB-B9B2-EA0369277D7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provided courtesy of Bing images.</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A2C9-F091-432B-B02E-5C4BD390B76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7086D-C265-4B95-8E19-CDDA94391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6182-EA82-476C-AA32-6A33519D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FDAB8-BEAA-408A-80BC-2CBF2715A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1944D-138D-4808-9305-23E701878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BB47E-6ECB-43C5-A8F1-2C35E3683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BEA9F-B355-495C-9C44-77A4E714C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CA1B6-87D0-4ABA-9A34-98B178494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655C8-7E6E-4471-BD34-F1663A627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4B8A5-1AB4-4F57-A6A7-11F0B11AF5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12F832-D8EF-4B69-A0FB-0CE8D267F9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919A33-E4EA-4D98-A446-78F6664B83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F8E9A-9A69-4B6E-AD01-93965859C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96240-3CF5-4289-BA98-4CA0A7379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24538-768B-4717-A81C-C5F9D13D1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3AB1-0BAE-4DFE-9B52-54FD56B9F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DEF27-3659-4FD5-9221-3B0B2443E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DDD7F-21FB-4AEE-B8F9-57833849F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D35BC-84EA-4957-8958-E3ED0A192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49DA0-579C-42C2-9F6A-DFEEF43BB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E3660-258D-48F5-AA5D-529F11B3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B730-111E-4BC9-B091-0D551AE1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DDF77-C36F-4B51-888D-4825F1B72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7D357-B595-496B-B08C-FAF1B6D6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0D6DE-160B-4A60-B17D-E46439E1A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44315-C229-4290-A36B-8A9722DCD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D474A-570A-4C73-92C9-A6AB75953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A1767-660B-4529-A4D7-D4E80C413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2FDC0-0BEE-45D6-A3BE-A2DB35F67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8F72C-DF98-4848-8869-246B040D9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88D2F-238A-4D8A-889A-8479BF634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C42C3-F247-43E3-B355-9B3182422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CFE7-18F8-4E1C-B686-8A64A968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B7FA3-66A5-4261-85AB-29C6EF202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B830E-D973-4D90-8EE6-D7ED7FAF2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E950A-D993-4C3F-9ECF-1FCD7B1EC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D3A28-6D0F-4E69-B07B-3DCEF5300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9F020-C257-4C8A-AD78-06AE4BB85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6ACBE-02E4-4072-AE4E-F5946301B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B01550-B186-4C12-A02C-892297CC73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34ABE-07A6-4435-ADE3-27087E1001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2C94D-DFC2-45DE-BE75-BC045E22E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51878-53E6-4BAB-AA01-BF99C2D9E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1E8AD-5AF8-473C-904A-7E11AFF5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68022-4903-4897-81F7-9C98F6ED0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FA006-9DF0-4BB9-A347-C32A63077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54AAE0-906F-4975-A1EB-7DEE2171A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250B2-7C81-4A9D-9816-0C2ED41EE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94851-2C3E-4813-94A8-C892EB09D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770F7-2770-435B-8062-F4CD44A74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D42ED-EB1E-4C23-B2B1-4BAD59A26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730C33-548D-4A92-B874-289365B84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41D9E3-D1F2-40E0-AD42-45320A1E8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1FC65A-AEC3-44E2-AC4F-C92970BE3F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1851-085D-4338-A4DB-70A92C2D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35857-8A9D-4FFE-BB68-B0ABC8920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314E9-AE8C-413C-A141-96E8A50617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B4E57-2E66-4D6F-A137-B2EF4BF03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B1E3E-A118-43FD-AAE6-CC23678A8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FA92C-77AE-4B42-A58A-921301F4DC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86F7C-532D-472C-9C55-152B05C9A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EB0B6-3FC4-48CF-A65B-A249676CB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1E699-843A-44D2-BD43-7BFE1D264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D92DB-36AA-43FE-A8A4-2FE4D50E0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01C058-A3D1-484F-9856-5847C7132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FCB6-A3D1-42FB-80FA-3D5237BB5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40AAB-58E2-417B-BB30-1BBBDC2912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271B6-D721-4BBC-B80C-C30D4D0F3E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EA0580-9E6E-4A1C-A99F-E15E75176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E9AEA-0521-45F8-9335-07E924C9C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F7026-FBBF-4E35-8DC1-95FA15F45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A65C3-6FA4-472F-A6F1-23FB626D0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BDD63-4886-43FC-8978-C73BAF48E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61615-294E-4086-8751-8F1EBC6B9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7314C-40AA-486D-8B09-373519772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B0B0F-B1DA-4313-8D3C-0256291B3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7279-2363-431F-9474-65D7D3216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5EEBE-DC9E-48B2-95D4-EDB2B8A1D2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A0BC7E-EE00-4B1F-B921-CB9CD9E97B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E93327-9B57-4D1A-B589-945E5F716D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B85FF2-A04D-4EC5-AC87-185570156E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DCEC8D-0A34-4F7A-B5EB-38BD8E196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0E03C-4BD9-487A-BB0C-9D68032C7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BF0E9-4DE7-43A1-A40A-12530CC44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D45F8A-CC78-4817-A54B-2FAB397D8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768D8E-4C59-49E2-B865-70E7CCDD0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950D0-B824-4923-933F-E720CB883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4A29-DCAB-41C5-937F-4B7DF055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08D93-C749-4E13-AB8C-5C5370788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22817-ABE6-40F2-A608-77D4D4BEA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6ABFE-5156-401E-8420-4D123F1DA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16709-7667-446F-8B92-99421159FF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53829E-046C-446C-B2A6-1E7B22660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C8BDA7-6408-4FB6-95FC-E38612E3E0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EFFC9-4ADD-4ED1-8417-514D8A3D05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8D45FD-8298-42D7-8F0F-6525C3AD29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0A2344-8299-4994-BCD7-3652FEFD0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04B8E-DA40-4B4D-8206-E26E2AA0C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1B41-96A3-4DA2-84DC-D0CAC844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8EA62-16CD-49DE-B41F-4A2DCBF8E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395C2-6018-4FAF-BC35-D8E3C7438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A64B1-B533-452C-8804-A92F00127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697977-4985-4F66-BB09-94479B62A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5356E-990B-40C6-AF0C-85B5CB8AD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662A6B-E99F-4709-88D0-1253B70C03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93A348-5838-4A85-BC7A-5914D1C175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F59CAA-96E3-4ACF-A6A6-2B127CDF88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B3BED-C1D4-4F0A-9FBB-7A9BD92971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95d1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5d1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DF50D-793E-4728-9BDF-7E4B3F5039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2C92-6618-4DB9-A5E5-357AADBB2199}"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77A7-6806-4CD1-80EA-3D43E7F143C5}"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E241-7FA2-4FDD-9BAD-26D35C15E9D2}"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Click to edit the outline text format</a:t>
            </a:r>
            <a:endParaRPr b="0" lang="en-US" sz="3200" spc="-1" strike="noStrike">
              <a:solidFill>
                <a:srgbClr val="ece9c6"/>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econd Outline Level</a:t>
            </a:r>
            <a:endParaRPr b="0" lang="en-US" sz="3200" spc="-1" strike="noStrike">
              <a:solidFill>
                <a:srgbClr val="ece9c6"/>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Third Outline Level</a:t>
            </a:r>
            <a:endParaRPr b="0" lang="en-US" sz="3200" spc="-1" strike="noStrike">
              <a:solidFill>
                <a:srgbClr val="ece9c6"/>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Fourth Outline Level</a:t>
            </a:r>
            <a:endParaRPr b="0" lang="en-US" sz="3200" spc="-1" strike="noStrike">
              <a:solidFill>
                <a:srgbClr val="ece9c6"/>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Fifth Outline Level</a:t>
            </a:r>
            <a:endParaRPr b="0" lang="en-US" sz="3200" spc="-1" strike="noStrike">
              <a:solidFill>
                <a:srgbClr val="ece9c6"/>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ixth Outline Level</a:t>
            </a:r>
            <a:endParaRPr b="0" lang="en-US" sz="3200" spc="-1" strike="noStrike">
              <a:solidFill>
                <a:srgbClr val="ece9c6"/>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9c6"/>
                </a:solidFill>
                <a:latin typeface="Franklin Gothic Book"/>
              </a:rPr>
              <a:t>Seventh Outline Level</a:t>
            </a:r>
            <a:endParaRPr b="0" lang="en-US" sz="3200" spc="-1" strike="noStrike">
              <a:solidFill>
                <a:srgbClr val="ece9c6"/>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e9c6"/>
                </a:solidFill>
                <a:latin typeface="Franklin Gothic Medium"/>
              </a:rPr>
              <a:t>Click to edit the title text format</a:t>
            </a:r>
            <a:endParaRPr b="0" lang="en-US" sz="3600" spc="-1" strike="noStrike">
              <a:solidFill>
                <a:srgbClr val="ece9c6"/>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1913-2086-422B-B4E0-E0EEFA2EB04A}"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62F7-AD37-4994-AA23-CE8593B844F3}"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1E44-33AB-4EFB-9CBA-A33D64AEEB78}"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62CC-5EC2-4590-B321-8E5DA2C64A6B}"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6E91-96C4-499C-B8F7-D77534958708}"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lick to edit the outline text format</a:t>
            </a:r>
            <a:endParaRPr b="0" lang="en-US" sz="3200" spc="-1" strike="noStrike">
              <a:solidFill>
                <a:srgbClr val="895d1d"/>
              </a:solidFill>
              <a:latin typeface="Franklin Gothic Book"/>
            </a:endParaRPr>
          </a:p>
          <a:p>
            <a:pPr lvl="1" marL="743040" indent="-28584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cond Outline Level</a:t>
            </a:r>
            <a:endParaRPr b="0" lang="en-US" sz="3200" spc="-1" strike="noStrike">
              <a:solidFill>
                <a:srgbClr val="895d1d"/>
              </a:solidFill>
              <a:latin typeface="Franklin Gothic Book"/>
            </a:endParaRPr>
          </a:p>
          <a:p>
            <a:pPr lvl="2" marL="11430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hird Outline Level</a:t>
            </a:r>
            <a:endParaRPr b="0" lang="en-US" sz="3200" spc="-1" strike="noStrike">
              <a:solidFill>
                <a:srgbClr val="895d1d"/>
              </a:solidFill>
              <a:latin typeface="Franklin Gothic Book"/>
            </a:endParaRPr>
          </a:p>
          <a:p>
            <a:pPr lvl="3" marL="1600200" indent="-228600">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ourth Outline Level</a:t>
            </a:r>
            <a:endParaRPr b="0" lang="en-US" sz="3200" spc="-1" strike="noStrike">
              <a:solidFill>
                <a:srgbClr val="895d1d"/>
              </a:solidFill>
              <a:latin typeface="Franklin Gothic Book"/>
            </a:endParaRPr>
          </a:p>
          <a:p>
            <a:pPr lvl="4" marL="2057400" indent="-228600">
              <a:spcBef>
                <a:spcPts val="799"/>
              </a:spcBef>
              <a:buClr>
                <a:srgbClr val="87362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ifth Outline Level</a:t>
            </a:r>
            <a:endParaRPr b="0" lang="en-US" sz="3200" spc="-1" strike="noStrike">
              <a:solidFill>
                <a:srgbClr val="895d1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ixth Outline Level</a:t>
            </a:r>
            <a:endParaRPr b="0" lang="en-US" sz="3200" spc="-1" strike="noStrike">
              <a:solidFill>
                <a:srgbClr val="895d1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eventh Outline Level</a:t>
            </a:r>
            <a:endParaRPr b="0" lang="en-US" sz="3200" spc="-1" strike="noStrike">
              <a:solidFill>
                <a:srgbClr val="895d1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5d1d"/>
                </a:solidFill>
                <a:latin typeface="Franklin Gothic Medium"/>
              </a:rPr>
              <a:t>Click to edit the title text format</a:t>
            </a:r>
            <a:endParaRPr b="0" lang="en-US" sz="3600" spc="-1" strike="noStrike">
              <a:solidFill>
                <a:srgbClr val="895d1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62e1e"/>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62e1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28A9-5AB0-4778-843A-53B958178316}" type="slidenum">
              <a:rPr b="0" lang="en-US" sz="1200" spc="-1" strike="noStrike">
                <a:solidFill>
                  <a:srgbClr val="762e1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7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298440" y="4816440"/>
            <a:ext cx="8540640" cy="1603440"/>
          </a:xfrm>
          <a:prstGeom prst="rect">
            <a:avLst/>
          </a:prstGeom>
          <a:ln w="0">
            <a:noFill/>
          </a:ln>
        </p:spPr>
      </p:pic>
      <p:sp>
        <p:nvSpPr>
          <p:cNvPr id="407" name="PlaceHolder 1"/>
          <p:cNvSpPr>
            <a:spLocks noGrp="1"/>
          </p:cNvSpPr>
          <p:nvPr>
            <p:ph type="subTitle"/>
          </p:nvPr>
        </p:nvSpPr>
        <p:spPr>
          <a:xfrm>
            <a:off x="380520" y="1828440"/>
            <a:ext cx="8458200" cy="2971800"/>
          </a:xfrm>
          <a:prstGeom prst="rect">
            <a:avLst/>
          </a:prstGeom>
          <a:noFill/>
          <a:ln w="0">
            <a:noFill/>
          </a:ln>
        </p:spPr>
        <p:txBody>
          <a:bodyPr lIns="90000" rIns="90000" tIns="46800" bIns="4680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85118"/>
                </a:solidFill>
                <a:latin typeface="Aharoni"/>
                <a:ea typeface="Aharoni"/>
              </a:rPr>
              <a:t>WHAT YOU MAY NOT KNOW ABOUT HERBAL SUPPLEMETNS</a:t>
            </a:r>
            <a:endParaRPr b="0" lang="en-US" sz="6000" spc="-1" strike="noStrike">
              <a:solidFill>
                <a:srgbClr val="895d1d"/>
              </a:solidFill>
              <a:latin typeface="Franklin Gothic 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2" name="Title 1" descr=""/>
          <p:cNvPicPr/>
          <p:nvPr/>
        </p:nvPicPr>
        <p:blipFill>
          <a:blip r:embed="rId2"/>
          <a:stretch/>
        </p:blipFill>
        <p:spPr>
          <a:xfrm>
            <a:off x="109440" y="457200"/>
            <a:ext cx="8882280" cy="100008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lIns="90000" rIns="90000" tIns="46800" bIns="46800" anchor="t">
            <a:normAutofit fontScale="99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Herbal Medicine.  (2011).  Health topics.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Retrieved April 9,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www.nlm.nih.gov/medlineplus/herbal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edicine.html.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Herbal Supplements.  (2011).  Nutrition and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ealthy eating.  Retrieved April 8,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www.mayoclinic.com/health/herbal-</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supplements/SA00044.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Using Dietary Supplements Wisely.  (2011).  Get </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the facts.  Retrieved April 10, 2011 fro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95d1d"/>
                </a:solidFill>
                <a:latin typeface="Franklin Gothic Book"/>
              </a:rPr>
              <a:t>     </a:t>
            </a:r>
            <a:r>
              <a:rPr b="0" lang="en-US" sz="2500" spc="-1" strike="noStrike">
                <a:solidFill>
                  <a:srgbClr val="895d1d"/>
                </a:solidFill>
                <a:latin typeface="Franklin Gothic Book"/>
              </a:rPr>
              <a:t>http://nccam.nih.gov/health/supplements/wiseuse.htm.</a:t>
            </a: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95d1d"/>
              </a:solidFill>
              <a:latin typeface="Franklin Gothic Book"/>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895d1d"/>
              </a:solidFill>
              <a:latin typeface="Franklin Gothic Book"/>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146160" y="268200"/>
            <a:ext cx="8845560" cy="135900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 supplement is defined as any part of a plant, vitamin, mineral or accessory nutrient that is taken in either the form of a powder, tablets, liquids, tinctures, etc. for the purpose of promoting health and well-being (Using Dietary Supplements Wisely, 2011).  </a:t>
            </a:r>
            <a:endParaRPr b="0" lang="en-US" sz="3200" spc="-1" strike="noStrike">
              <a:solidFill>
                <a:srgbClr val="895d1d"/>
              </a:solidFill>
              <a:latin typeface="Franklin Gothic Book"/>
            </a:endParaRPr>
          </a:p>
          <a:p>
            <a:pPr marL="322200" indent="-322200">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Supplements should be seen as a “supplement” to your diet and lifestyle…not a replacement to healthy living and eating.</a:t>
            </a:r>
            <a:endParaRPr b="0" lang="en-US" sz="3200" spc="-1" strike="noStrike">
              <a:solidFill>
                <a:srgbClr val="895d1d"/>
              </a:solidFill>
              <a:latin typeface="Franklin Gothic Book"/>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328680" y="5029200"/>
            <a:ext cx="8589960" cy="1371600"/>
          </a:xfrm>
          <a:prstGeom prst="rect">
            <a:avLst/>
          </a:prstGeom>
          <a:ln w="0">
            <a:noFill/>
          </a:ln>
        </p:spPr>
      </p:pic>
      <p:sp>
        <p:nvSpPr>
          <p:cNvPr id="411" name="PlaceHolder 1"/>
          <p:cNvSpPr>
            <a:spLocks noGrp="1"/>
          </p:cNvSpPr>
          <p:nvPr>
            <p:ph/>
          </p:nvPr>
        </p:nvSpPr>
        <p:spPr>
          <a:xfrm>
            <a:off x="4190760" y="533160"/>
            <a:ext cx="4647960" cy="4800600"/>
          </a:xfrm>
          <a:prstGeom prst="rect">
            <a:avLst/>
          </a:prstGeom>
          <a:noFill/>
          <a:ln w="0">
            <a:noFill/>
          </a:ln>
        </p:spPr>
        <p:txBody>
          <a:bodyPr lIns="90000" rIns="90000" tIns="46800" bIns="46800" anchor="t">
            <a:normAutofit fontScale="94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Herbal supplements are not necessarily safe just because they occur in nature.  If you were out in the woods would you eat or sleep on any plant you came across, NO…some of them are poisonous!  Herbal supplements are not all pure so they contain other ingredients that could make you sick.</a:t>
            </a:r>
            <a:endParaRPr b="0" lang="en-US" sz="2000" spc="-1" strike="noStrike">
              <a:solidFill>
                <a:srgbClr val="895d1d"/>
              </a:solidFill>
              <a:latin typeface="Franklin Gothic 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Trustworthy evidence can be hard to come by in supporting advertisers claims on herbal supplements and hundreds are available.</a:t>
            </a:r>
            <a:endParaRPr b="0" lang="en-US" sz="2000" spc="-1" strike="noStrike">
              <a:solidFill>
                <a:srgbClr val="895d1d"/>
              </a:solidFill>
              <a:latin typeface="Franklin Gothic Boo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Franklin Gothic Book"/>
              </a:rPr>
              <a:t>Make sure you do your research and consult a doctor or pharmacist, it is your health after all.</a:t>
            </a:r>
            <a:endParaRPr b="0" lang="en-US" sz="2000" spc="-1" strike="noStrike">
              <a:solidFill>
                <a:srgbClr val="895d1d"/>
              </a:solidFill>
              <a:latin typeface="Franklin Gothic Book"/>
            </a:endParaRPr>
          </a:p>
        </p:txBody>
      </p:sp>
      <p:pic>
        <p:nvPicPr>
          <p:cNvPr id="412" name="Content Placeholder 4" descr=""/>
          <p:cNvPicPr/>
          <p:nvPr/>
        </p:nvPicPr>
        <p:blipFill>
          <a:blip r:embed="rId2"/>
          <a:stretch/>
        </p:blipFill>
        <p:spPr>
          <a:xfrm>
            <a:off x="304920" y="914400"/>
            <a:ext cx="3657600" cy="365760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109440" y="457200"/>
            <a:ext cx="8882280" cy="1000080"/>
          </a:xfrm>
          <a:prstGeom prst="rect">
            <a:avLst/>
          </a:prstGeom>
          <a:ln w="0">
            <a:noFill/>
          </a:ln>
        </p:spPr>
      </p:pic>
      <p:sp>
        <p:nvSpPr>
          <p:cNvPr id="414" name=""/>
          <p:cNvSpPr txBox="1"/>
          <p:nvPr/>
        </p:nvSpPr>
        <p:spPr>
          <a:xfrm>
            <a:off x="304560" y="1599840"/>
            <a:ext cx="419076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THE BAD</a:t>
            </a:r>
            <a:endParaRPr b="0" lang="en-US" sz="2400" spc="-1" strike="noStrike">
              <a:solidFill>
                <a:srgbClr val="895d1d"/>
              </a:solidFill>
              <a:latin typeface="Franklin Gothic Book"/>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5d1d"/>
                </a:solidFill>
                <a:latin typeface="Franklin Gothic Book"/>
              </a:rPr>
              <a:t>Herbal supplements are regulated as dietary supplements which means the FDA does not have to approve them before they go on the market.  Companies can claim the product addresses a nutrient deficiency, supports health, or is linked to body functions (Herbal Supplements, 2011).</a:t>
            </a:r>
            <a:endParaRPr b="0" lang="en-US" sz="2600" spc="-1" strike="noStrike">
              <a:solidFill>
                <a:srgbClr val="895d1d"/>
              </a:solidFill>
              <a:latin typeface="Franklin Gothic Book"/>
            </a:endParaRPr>
          </a:p>
        </p:txBody>
      </p:sp>
      <p:sp>
        <p:nvSpPr>
          <p:cNvPr id="415" name=""/>
          <p:cNvSpPr txBox="1"/>
          <p:nvPr/>
        </p:nvSpPr>
        <p:spPr>
          <a:xfrm>
            <a:off x="4647960" y="1600200"/>
            <a:ext cx="4343400" cy="5105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THE GOOD</a:t>
            </a:r>
            <a:r>
              <a:rPr b="0" lang="en-US" sz="2400" spc="-1" strike="noStrike">
                <a:solidFill>
                  <a:srgbClr val="895d1d"/>
                </a:solidFill>
                <a:latin typeface="Franklin Gothic Book"/>
              </a:rPr>
              <a:t>	</a:t>
            </a:r>
            <a:endParaRPr b="0" lang="en-US" sz="2400" spc="-1" strike="noStrike">
              <a:solidFill>
                <a:srgbClr val="895d1d"/>
              </a:solidFill>
              <a:latin typeface="Franklin Gothic Book"/>
            </a:endParaRPr>
          </a:p>
          <a:p>
            <a:pPr marL="325800" indent="-325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5d1d"/>
                </a:solidFill>
                <a:latin typeface="Franklin Gothic Book"/>
              </a:rPr>
              <a:t>Manufacturers must follow good manufacturing practices (GMPs) to ensure that supplements are processed consistently and meet quality standards.  Once a supplement is on the market the FDA is responsible for its safety and can issue a warning or removal if the product is unsafe (Herbal Supplements, 2011).</a:t>
            </a:r>
            <a:endParaRPr b="0" lang="en-US" sz="2600" spc="-1" strike="noStrike">
              <a:solidFill>
                <a:srgbClr val="895d1d"/>
              </a:solidFill>
              <a:latin typeface="Franklin Gothic Book"/>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Title 1" descr=""/>
          <p:cNvPicPr/>
          <p:nvPr/>
        </p:nvPicPr>
        <p:blipFill>
          <a:blip r:embed="rId2"/>
          <a:stretch/>
        </p:blipFill>
        <p:spPr>
          <a:xfrm>
            <a:off x="146160" y="457200"/>
            <a:ext cx="8845560" cy="927000"/>
          </a:xfrm>
          <a:prstGeom prst="rect">
            <a:avLst/>
          </a:prstGeom>
          <a:ln w="0">
            <a:noFill/>
          </a:ln>
        </p:spPr>
      </p:pic>
      <p:sp>
        <p:nvSpPr>
          <p:cNvPr id="41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lready taking prescription or over-the-counter medications</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Pregnant or breast-feeding</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Having surgery</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Younger than 18</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Older than 65</a:t>
            </a:r>
            <a:endParaRPr b="0" lang="en-US" sz="3200" spc="-1" strike="noStrike">
              <a:solidFill>
                <a:srgbClr val="895d1d"/>
              </a:solidFill>
              <a:latin typeface="Franklin Gothic Book"/>
            </a:endParaRPr>
          </a:p>
          <a:p>
            <a:pPr marL="343080" indent="-343080" algn="ctr">
              <a:lnSpc>
                <a:spcPct val="90000"/>
              </a:lnSpc>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Already have health issues</a:t>
            </a:r>
            <a:endParaRPr b="0" lang="en-US" sz="3200" spc="-1" strike="noStrike">
              <a:solidFill>
                <a:srgbClr val="895d1d"/>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Herbal Medicine, 2011)</a:t>
            </a:r>
            <a:endParaRPr b="0" lang="en-US" sz="3200" spc="-1" strike="noStrike">
              <a:solidFill>
                <a:srgbClr val="895d1d"/>
              </a:solidFill>
              <a:latin typeface="Franklin Gothic Book"/>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304920" y="536400"/>
            <a:ext cx="8521560" cy="573120"/>
          </a:xfrm>
          <a:prstGeom prst="rect">
            <a:avLst/>
          </a:prstGeom>
          <a:ln w="0">
            <a:noFill/>
          </a:ln>
        </p:spPr>
      </p:pic>
      <p:sp>
        <p:nvSpPr>
          <p:cNvPr id="419" name="PlaceHolder 1"/>
          <p:cNvSpPr>
            <a:spLocks noGrp="1"/>
          </p:cNvSpPr>
          <p:nvPr>
            <p:ph/>
          </p:nvPr>
        </p:nvSpPr>
        <p:spPr>
          <a:xfrm>
            <a:off x="380520" y="1294920"/>
            <a:ext cx="4953240" cy="4800600"/>
          </a:xfrm>
          <a:prstGeom prst="rect">
            <a:avLst/>
          </a:prstGeom>
          <a:noFill/>
          <a:ln w="0">
            <a:noFill/>
          </a:ln>
        </p:spPr>
        <p:txBody>
          <a:bodyPr lIns="90000" rIns="90000" tIns="46800" bIns="46800" anchor="t">
            <a:normAutofit fontScale="9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St. John’s Wort – Useful in elevating mood</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Saw Palmetto – Can help with prostate problem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Hawthorn – Look for this if you have heart problem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reen Tea – Helps in many different aspects of health</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oldenseal – Need healing, look here</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inseng – Improve energy level and resistance to stres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ingko Biloba – Having trouble remembering, try thi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Echinacea – Cold and flu season, turn to thi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Feverfew – Great for migranes</a:t>
            </a:r>
            <a:endParaRPr b="0" lang="en-US" sz="1800" spc="-1" strike="noStrike">
              <a:solidFill>
                <a:srgbClr val="895d1d"/>
              </a:solidFill>
              <a:latin typeface="Franklin Gothic Boo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Berlin Sans FB Demi"/>
              </a:rPr>
              <a:t>Garlic – Not just for vampires!  Used for cardiovascular conditions</a:t>
            </a:r>
            <a:endParaRPr b="0" lang="en-US" sz="1800" spc="-1" strike="noStrike">
              <a:solidFill>
                <a:srgbClr val="895d1d"/>
              </a:solidFill>
              <a:latin typeface="Franklin Gothic Book"/>
            </a:endParaRPr>
          </a:p>
        </p:txBody>
      </p:sp>
      <p:pic>
        <p:nvPicPr>
          <p:cNvPr id="420" name="Content Placeholder 4" descr=""/>
          <p:cNvPicPr/>
          <p:nvPr/>
        </p:nvPicPr>
        <p:blipFill>
          <a:blip r:embed="rId2"/>
          <a:stretch/>
        </p:blipFill>
        <p:spPr>
          <a:xfrm>
            <a:off x="5486400" y="1600200"/>
            <a:ext cx="2857680" cy="37339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Placeholder 5" descr=""/>
          <p:cNvPicPr/>
          <p:nvPr/>
        </p:nvPicPr>
        <p:blipFill>
          <a:blip r:embed="rId2"/>
          <a:stretch/>
        </p:blipFill>
        <p:spPr>
          <a:xfrm>
            <a:off x="5400720" y="317520"/>
            <a:ext cx="3530520" cy="11148840"/>
          </a:xfrm>
          <a:prstGeom prst="rect">
            <a:avLst/>
          </a:prstGeom>
          <a:ln w="0">
            <a:noFill/>
          </a:ln>
        </p:spPr>
      </p:pic>
      <p:pic>
        <p:nvPicPr>
          <p:cNvPr id="422" name="Title 2" descr=""/>
          <p:cNvPicPr/>
          <p:nvPr/>
        </p:nvPicPr>
        <p:blipFill>
          <a:blip r:embed="rId3"/>
          <a:stretch/>
        </p:blipFill>
        <p:spPr>
          <a:xfrm>
            <a:off x="36360" y="139680"/>
            <a:ext cx="3853080" cy="2633760"/>
          </a:xfrm>
          <a:prstGeom prst="rect">
            <a:avLst/>
          </a:prstGeom>
          <a:ln w="0">
            <a:noFill/>
          </a:ln>
        </p:spPr>
      </p:pic>
      <p:sp>
        <p:nvSpPr>
          <p:cNvPr id="423" name="PlaceHolder 1"/>
          <p:cNvSpPr>
            <a:spLocks noGrp="1"/>
          </p:cNvSpPr>
          <p:nvPr>
            <p:ph/>
          </p:nvPr>
        </p:nvSpPr>
        <p:spPr>
          <a:xfrm>
            <a:off x="456840" y="2819160"/>
            <a:ext cx="5181480" cy="3786120"/>
          </a:xfrm>
          <a:prstGeom prst="rect">
            <a:avLst/>
          </a:prstGeom>
          <a:noFill/>
          <a:ln w="0">
            <a:noFill/>
          </a:ln>
        </p:spPr>
        <p:txBody>
          <a:bodyPr lIns="109800" rIns="90000" tIns="0" bIns="46800" anchor="t">
            <a:normAutofit fontScale="99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Labels of all herbal supplements must include:</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The name of the herbal supplemen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The name and address of the manufacturer/distributor</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A complete list of ingredients – either in Supplement Facts panel or listed beneath i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Serving size, amount of active ingredient</a:t>
            </a: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95d1d"/>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Franklin Gothic Book"/>
              </a:rPr>
              <a:t>Still confused, don’t hesitate to ask your doctor or pharmacist.  There is a Dietary Supplements Labels Database available on the National Library of Medicine’s Web site which will also help.</a:t>
            </a:r>
            <a:endParaRPr b="0" lang="en-US" sz="1800" spc="-1" strike="noStrike">
              <a:solidFill>
                <a:srgbClr val="895d1d"/>
              </a:solidFill>
              <a:latin typeface="Franklin Gothic Book"/>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4" name="Title 1" descr=""/>
          <p:cNvPicPr/>
          <p:nvPr/>
        </p:nvPicPr>
        <p:blipFill>
          <a:blip r:embed="rId2"/>
          <a:stretch/>
        </p:blipFill>
        <p:spPr>
          <a:xfrm>
            <a:off x="304920" y="457200"/>
            <a:ext cx="8845560" cy="927000"/>
          </a:xfrm>
          <a:prstGeom prst="rect">
            <a:avLst/>
          </a:prstGeom>
          <a:ln w="0">
            <a:noFill/>
          </a:ln>
        </p:spPr>
      </p:pic>
      <p:sp>
        <p:nvSpPr>
          <p:cNvPr id="42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ablets</a:t>
            </a:r>
            <a:r>
              <a:rPr b="0" lang="en-US" sz="3200" spc="-1" strike="noStrike">
                <a:solidFill>
                  <a:srgbClr val="895d1d"/>
                </a:solidFill>
                <a:latin typeface="Franklin Gothic Book"/>
              </a:rPr>
              <a:t>	</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Capsule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Powder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Tea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Extract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Fresh Plants</a:t>
            </a:r>
            <a:endParaRPr b="0" lang="en-US" sz="3200" spc="-1" strike="noStrike">
              <a:solidFill>
                <a:srgbClr val="895d1d"/>
              </a:solidFill>
              <a:latin typeface="Franklin Gothic Book"/>
            </a:endParaRPr>
          </a:p>
          <a:p>
            <a:pPr marL="343080" indent="-343080" algn="ctr">
              <a:spcBef>
                <a:spcPts val="799"/>
              </a:spcBef>
              <a:buClr>
                <a:srgbClr val="87362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Franklin Gothic Book"/>
              </a:rPr>
              <a:t>Dried Plants</a:t>
            </a:r>
            <a:endParaRPr b="0" lang="en-US" sz="3200" spc="-1" strike="noStrike">
              <a:solidFill>
                <a:srgbClr val="895d1d"/>
              </a:solidFill>
              <a:latin typeface="Franklin Gothic Book"/>
            </a:endParaRPr>
          </a:p>
        </p:txBody>
      </p:sp>
      <p:pic>
        <p:nvPicPr>
          <p:cNvPr id="426" name="Picture 2" descr="C:\Users\Iris\AppData\Local\Microsoft\Windows\Temporary Internet Files\Content.IE5\7XBFI7O4\MC900335772[1].wmf"/>
          <p:cNvPicPr/>
          <p:nvPr/>
        </p:nvPicPr>
        <p:blipFill>
          <a:blip r:embed="rId3"/>
          <a:stretch/>
        </p:blipFill>
        <p:spPr>
          <a:xfrm>
            <a:off x="6324480" y="2590920"/>
            <a:ext cx="2619360" cy="2463840"/>
          </a:xfrm>
          <a:prstGeom prst="rect">
            <a:avLst/>
          </a:prstGeom>
          <a:ln w="0">
            <a:noFill/>
          </a:ln>
        </p:spPr>
      </p:pic>
      <p:pic>
        <p:nvPicPr>
          <p:cNvPr id="427" name="Picture 4" descr="C:\Users\Iris\AppData\Local\Microsoft\Windows\Temporary Internet Files\Content.IE5\CSMSLS8N\MC900383066[1].wmf"/>
          <p:cNvPicPr/>
          <p:nvPr/>
        </p:nvPicPr>
        <p:blipFill>
          <a:blip r:embed="rId4"/>
          <a:stretch/>
        </p:blipFill>
        <p:spPr>
          <a:xfrm>
            <a:off x="914400" y="4537080"/>
            <a:ext cx="1825560" cy="1644480"/>
          </a:xfrm>
          <a:prstGeom prst="rect">
            <a:avLst/>
          </a:prstGeom>
          <a:ln w="0">
            <a:noFill/>
          </a:ln>
        </p:spPr>
      </p:pic>
      <p:pic>
        <p:nvPicPr>
          <p:cNvPr id="428" name="Picture 7" descr="C:\Users\Iris\AppData\Local\Microsoft\Windows\Temporary Internet Files\Content.IE5\X7W975PZ\MC900280992[1].wmf"/>
          <p:cNvPicPr/>
          <p:nvPr/>
        </p:nvPicPr>
        <p:blipFill>
          <a:blip r:embed="rId5"/>
          <a:stretch/>
        </p:blipFill>
        <p:spPr>
          <a:xfrm>
            <a:off x="838080" y="1371600"/>
            <a:ext cx="2257560" cy="26859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Title 1" descr=""/>
          <p:cNvPicPr/>
          <p:nvPr/>
        </p:nvPicPr>
        <p:blipFill>
          <a:blip r:embed="rId2"/>
          <a:stretch/>
        </p:blipFill>
        <p:spPr>
          <a:xfrm>
            <a:off x="457200" y="5059440"/>
            <a:ext cx="8461440" cy="1646280"/>
          </a:xfrm>
          <a:prstGeom prst="rect">
            <a:avLst/>
          </a:prstGeom>
          <a:ln w="0">
            <a:noFill/>
          </a:ln>
        </p:spPr>
      </p:pic>
      <p:sp>
        <p:nvSpPr>
          <p:cNvPr id="430" name="PlaceHolder 1"/>
          <p:cNvSpPr>
            <a:spLocks noGrp="1"/>
          </p:cNvSpPr>
          <p:nvPr>
            <p:ph/>
          </p:nvPr>
        </p:nvSpPr>
        <p:spPr>
          <a:xfrm>
            <a:off x="456840" y="609120"/>
            <a:ext cx="5791320" cy="480060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5d1d"/>
                </a:solidFill>
                <a:latin typeface="Franklin Gothic Book"/>
              </a:rPr>
              <a:t>Healthcare professionals want to make sure patients and clients get the best care necessary while ensuring safety.  Hopefully after this guide to safety with herbal supplements you understand what these products are, who should use them, and a little bit more about how to be an informed consumer.  Many people take herbal supplements to be well and stay healthy just follow guidelines and get a doctor’s consent before purchasing and you will be on your way to improving your health. </a:t>
            </a:r>
            <a:endParaRPr b="0" lang="en-US" sz="2400" spc="-1" strike="noStrike">
              <a:solidFill>
                <a:srgbClr val="895d1d"/>
              </a:solidFill>
              <a:latin typeface="Franklin Gothic Book"/>
            </a:endParaRPr>
          </a:p>
        </p:txBody>
      </p:sp>
      <p:pic>
        <p:nvPicPr>
          <p:cNvPr id="431" name="Picture 2" descr="C:\Users\Iris\AppData\Local\Microsoft\Windows\Temporary Internet Files\Content.IE5\7XBFI7O4\MP900448394[1].jpg"/>
          <p:cNvPicPr/>
          <p:nvPr/>
        </p:nvPicPr>
        <p:blipFill>
          <a:blip r:embed="rId3"/>
          <a:stretch/>
        </p:blipFill>
        <p:spPr>
          <a:xfrm>
            <a:off x="6629400" y="1295280"/>
            <a:ext cx="2286000" cy="3429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01:17:08Z</dcterms:created>
  <dc:creator>Iris Ranker</dc:creator>
  <dc:description/>
  <dc:language>en-US</dc:language>
  <cp:lastModifiedBy>Iris Ranker</cp:lastModifiedBy>
  <dcterms:modified xsi:type="dcterms:W3CDTF">2011-04-18T22:01:26Z</dcterms:modified>
  <cp:revision>14</cp:revision>
  <dc:subject/>
  <dc:title>Iris Ranker Kaplan University  Professor Henningsen HW499-01  unit 4</dc:title>
</cp:coreProperties>
</file>